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5D0A-3059-4325-9C75-B7A900C6E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icvenue.com/night-sky-hd-desktop-backgroun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oodrichscience.com/21-inner-plane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Outer_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Venus in the night sky: http://pixgood.com/venus-in-the-night-sk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kalty.org/moon-and-ea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Milky_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ineplanet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jpl.nasa.gov/files/images/hi-res/plutoneptune.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vintagespace.files.wordpress.com/2011/11/pluto-little-planet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B8B-9BBF-4735-95FA-3FC3ED8F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86E-AF45-494A-A0A7-6AFE1D5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A00-EBAF-4469-9A17-286048DE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042-95EF-4148-B125-F7E0499D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EF1-56B9-4F4F-A845-C142BD3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EA3-5F1C-4D11-89DB-21FFF274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DBC-D90D-4B14-BBF7-CF4517B3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707-046C-43AC-B95B-543CC9E5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E48-468B-4951-A757-EB5E180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E3E-B100-4F6C-854D-69C503F1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06E-D711-4B97-9F71-2DFB655E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02F-1232-4FD2-A751-B8C7292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FEC7-ED3F-47BE-8F69-6865EDE84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ight Sky &amp;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 &amp;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ner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olid rocky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ury, Venus, Earth, 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223848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er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giants” because they are made up mostly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piter, Saturn, Uranus, Nept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13400" y="1676520"/>
            <a:ext cx="3727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estial obje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 can see in the sk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is a medium-sized s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s are massive collections of gases that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min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43400" y="1924200"/>
            <a:ext cx="44197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re large, round, celestial objects that orbit around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re not luminous, but they appear bright because they reflect the light of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2392200"/>
            <a:ext cx="44956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ns are smaller celestial objects orbiting around pla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91120" y="234468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axies are huge rotating collections of celestial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is part of the Milky Way galax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03920" y="1676520"/>
            <a:ext cx="337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2316240"/>
            <a:ext cx="85341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arf Pl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to is consider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warf pla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 can’t clear Neptune out  of its or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267080" y="2193840"/>
            <a:ext cx="46483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3:24:01Z</dcterms:created>
  <dc:creator>rubina khan</dc:creator>
  <dc:description/>
  <dc:language>en-US</dc:language>
  <cp:lastModifiedBy>rubina khan</cp:lastModifiedBy>
  <dcterms:modified xsi:type="dcterms:W3CDTF">2014-10-15T03:52:11Z</dcterms:modified>
  <cp:revision>25</cp:revision>
  <dc:subject/>
  <dc:title>PowerPoint Presentation</dc:title>
</cp:coreProperties>
</file>